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7BE-4CC7-4323-950C-A93910F6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9DC-D081-4327-9231-3DC69095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B7F-C2FA-4B96-8143-A41E5CC1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F3F-1A86-4AF1-A612-FE239C80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D2F-F39B-43ED-B2DB-B4F96514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43A-984C-4F5E-9F8F-BED774A5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76D-416E-4097-BF62-2B446A5C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180-CE19-4693-BD40-2E533E17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AAE-A243-4AE7-A52A-70C1DE09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C97-CE83-4E27-9092-C0C53843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372-38CA-4CB7-934E-B8D26F12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2A3-E5C0-48FB-B485-97578FBA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FBB0-E30C-4655-8F80-55E538746C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708360" y="6092640"/>
            <a:ext cx="5392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nsdag 17 nov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 rot="20982000">
            <a:off x="900000" y="404640"/>
            <a:ext cx="4017960" cy="197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2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Poetr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2843280" y="2637000"/>
            <a:ext cx="372744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Welk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inderliedjes zijn ook gedichte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t Visscher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baret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k op 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aa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ttp://www.youtube.com/watch?v=mucSwmm4BbU&amp;feature=player_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198840" y="56610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Je bent klaar,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it het eind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Verdana"/>
              </a:rPr>
              <a:t>Wat </a:t>
            </a:r>
            <a:br>
              <a:rPr sz="5400"/>
            </a:b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gaan we doen vanda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dicht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ilmpjes bekijken over gedicht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ringassociati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Elfje gedicht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lligraf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uisteren naar een d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Verdana"/>
              </a:rPr>
              <a:t>En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843280" y="5229360"/>
            <a:ext cx="59338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ten we snel beginnen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39640" y="981000"/>
            <a:ext cx="82296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Verdana"/>
              </a:rPr>
              <a:t>heb je er zin 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0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ha ha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nterklaar kapoen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i wat in mijn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en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… 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knock-out"/>
          <p:cNvPicPr/>
          <p:nvPr/>
        </p:nvPicPr>
        <p:blipFill>
          <a:blip r:embed="rId1"/>
          <a:stretch/>
        </p:blipFill>
        <p:spPr>
          <a:xfrm>
            <a:off x="5176800" y="1652760"/>
            <a:ext cx="2895480" cy="37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7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n jij het be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k dan op 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aa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perlin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://www.youtube.com/watch?v=rHHMaiNyzt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n je klaa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k dan 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HIE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gaan we verd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maakt een tekst tot een gedic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827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gedich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is voo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schilderij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portr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fo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momentopn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oorden zijn als ve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ij schildert met wo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gedicht is een afgerond gehee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92360" y="177336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 verhaal is m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 fil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r is een ontwikkel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 intri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 serie opeenvolgende gebeurteni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Bij een gedicht laat je woorden weg die niets toevo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808800" y="594216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Ben je klaar,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klik da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IER</a:t>
            </a: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an gaan we verd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8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8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8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8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6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0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6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9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6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8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6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6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6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6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Tip om een gedicht </a:t>
            </a:r>
            <a:br>
              <a:rPr sz="4000"/>
            </a:b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te schrij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464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p is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jiba Abdellaou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jiba (27) heeft de Nationale Kampioenschappen van Poetry Slam 2008 gewonnen, als eerste vrouw én allochto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etry Slam is een moderne vorm van poëzievoordracht, waarbij de dichters met elkaar in competitie ga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k op onderstaande hyperlink voor de tip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cc00"/>
                </a:solidFill>
                <a:latin typeface="Arial"/>
              </a:rPr>
              <a:t>http://www.youtube.com/watch?v=fU2yuciwPC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638880" y="594216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Ben je klaar,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klik da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IER</a:t>
            </a: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an gaan we verd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8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2184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lik op de onderstaande hyperli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ainpower maakt hiphop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&amp; rap muz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ij vertelt over zijn publiek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&amp; zijn tekste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zie.nl/videos/Brainpower---2009---On-the-Record/m1dzhlkft99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375960" y="594216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Ben je klaar,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klik dan 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IER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an gaan we verd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8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8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8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en gedicht kan ook kor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82400" y="2031840"/>
            <a:ext cx="736596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ik op de onderstaande hyper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://www.youtube.com/watch?v=LEGlMgq7Fm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159960" y="566100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Ben je klaar,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klik da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IER</a:t>
            </a: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an gaan we verd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9:23:35Z</dcterms:created>
  <dc:creator>Leerling</dc:creator>
  <dc:description/>
  <dc:language>en-US</dc:language>
  <cp:lastModifiedBy>1555966</cp:lastModifiedBy>
  <dcterms:modified xsi:type="dcterms:W3CDTF">2010-01-11T09:51:31Z</dcterms:modified>
  <cp:revision>13</cp:revision>
  <dc:subject/>
  <dc:title>Dia 1</dc:title>
</cp:coreProperties>
</file>